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2C4F9-24AE-4C2D-B006-26C1A7660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DFC1-F3E9-46DD-B7E3-C8CBF7BBD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5822C-814B-4AD7-8CC6-2646C02BD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2A91-A0C3-4878-9B8C-FFAD888E7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107D-76AC-4ED7-BFA7-B026974D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D3E8F-2E67-4F30-91F2-DF543670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B835-FECE-4751-B42A-81D32969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2377-5C4A-4862-8AED-92F81D1F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FF01-774C-4733-88C4-35011A53E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C8D5-EEB9-4F25-BFF7-BD60F8B6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0A7D-CDE2-4555-BBC9-68B7B2A1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99BF-AB62-4912-A28D-1860D432C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D448-95AA-4AAA-8F37-A9A2BE843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grayscl/>
          </a:blip>
          <a:stretch/>
        </p:blipFill>
        <p:spPr>
          <a:xfrm>
            <a:off x="4724280" y="1371600"/>
            <a:ext cx="1440000" cy="14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2:18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